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08C19-0444-414A-86BA-EA2A9A8636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E5976-C8CB-44CF-82FC-46E627E41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5132-FAE3-4886-9920-BB50362D0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1EEC-410E-415F-89B7-2C13C0E9A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754E-FC33-4989-99C5-7E6ABDE62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01C5F-61DF-463A-9362-C5B41DE49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7ABD7-58C5-4C65-A81F-37FB25A81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9F0D-71F8-4960-912C-9071F9BC06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80E8D-9FBA-47D3-8C9F-0A462B6F9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1D83-DA3A-4681-AFEB-4E596CC32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4565-253C-4022-B4FB-897FB543FB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097A-F75F-4AEA-A85A-9FDC62043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72A95-2328-4A52-9D92-39352533C3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CE86-48DF-46E0-B5BF-C323C197ED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FADF6-2AE3-4635-BC48-602F8CB0D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7E98-BD05-4278-81EF-113E39134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9D0C-1E08-4454-B36B-4E4E99C53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F553E-A62A-47F7-9A66-4C01A191B7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53B32-072E-4E10-ACBA-41D91D8477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0A5F-5370-484C-831F-D7B0CBC97F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1186-2D2A-45D0-80C6-4EA89B5CF3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E78F4-27B4-431C-A1BC-D63F485919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3784-014D-434A-AC57-9A3161BBC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791F-2DC7-41AF-926D-D9DFAC33FA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05D7-8819-4CAA-925D-4C191BFFE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A474-D2A1-4494-82AE-5CDF2BD074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FF918-6C6B-44A6-A0DE-672E2D0D23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6009-3895-441A-A599-E49AE4A49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CCD3-2FE5-4B9E-869B-3C655A973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74ED-18DF-401E-8212-52E6A3709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EFEC-C46E-462E-8578-AF5356B7E9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DAEB-81E8-467C-B685-CE07AD4EFB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C197-4579-42A0-B252-1AD31EE45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D4C9B-1E0F-4807-931C-06D20BC77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DC73-6096-4768-830B-0B3604DDCC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5441-9639-4AC3-9F54-39F806979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C65F-7F16-4163-A5D0-CC1AE9862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34898-291D-41D9-A675-585CB1327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DAC5-C6EF-4754-846C-841A54819B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A8E16-4697-4E91-86DE-9E389954D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928F7-8BAA-453C-990E-E6DAD51F9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E885B-1874-44B1-BD2E-9AE3A801A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56F0-65B9-4BE7-8088-89EE71AC0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BBF5-D6CA-4102-993F-871B1818F0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5911-CD36-4FDD-AD4F-91140C8999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9374A-7BF5-4A00-B0FB-D3F5C1D17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8F4F-7670-49FA-A4F4-3F49F1A55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CCFE3-7176-46B6-8D26-B6C59C43A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8C37-FBCC-47D3-A9F8-5212800B7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025D-DD93-4F41-987D-2D7AF93B8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E007-DD89-4481-B09B-F06D0CAB0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D184-9372-43A2-8CAC-D35AF8D73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36C-755A-4887-89B5-E9B12222B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7617-0D71-401D-8A9B-2635BD51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2CED-4E82-4497-8F89-709F0E6E7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21F7-4C1D-430C-9994-5959CF78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7E0-5475-45ED-A818-606A77681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6E8D-96BD-4B62-A577-5EDE3E3E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07FD-325D-4A07-8D56-F45EE7772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5E182-E60F-4FF5-99D9-6DF855F48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5F5-F41D-4E01-9C67-8957C380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E7DF-DD9B-4C94-81E9-A8A1A16EA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6D3F-AB4D-4E30-B755-CB863CFFB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0CBF1-F5E9-41F0-AA2B-05BD090E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42EA-224A-477A-BD71-E91B84040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"/><Relationship Id="rId6" Type="http://schemas.openxmlformats.org/officeDocument/2006/relationships/slide" Target="slide8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Layout" Target="../slideLayouts/slideLayout1.xml"/><Relationship Id="rId3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13"/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114"/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115"/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16"/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117"/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118"/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119"/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120"/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0"/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aramond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-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-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-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Traduis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en franç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Traduise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Times New Roman"/>
              </a:rPr>
              <a:t>en angla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057"/>
          <p:cNvSpPr/>
          <p:nvPr/>
        </p:nvSpPr>
        <p:spPr>
          <a:xfrm>
            <a:off x="1371600" y="1981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us (manger) la pizz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1029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1036"/>
          <p:cNvSpPr/>
          <p:nvPr/>
        </p:nvSpPr>
        <p:spPr>
          <a:xfrm>
            <a:off x="1371600" y="1371600"/>
            <a:ext cx="64008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0520" indent="-290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us mangeons la pizz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 (vendre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 ve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828800" y="12189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(descendre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09480" y="182844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 desc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512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us (rendre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2057"/>
          <p:cNvSpPr/>
          <p:nvPr/>
        </p:nvSpPr>
        <p:spPr>
          <a:xfrm>
            <a:off x="1066680" y="12952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us rend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es (attend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AutoShape 2052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2120" y="13712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les attend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44792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u (regar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us (perdre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3716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us perdez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560" y="990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(fin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fi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 (chois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 cho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12949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le (rougir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53416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lle roug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1143000"/>
            <a:ext cx="81532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ls (</a:t>
            </a:r>
            <a:r>
              <a:rPr b="0" lang="fr-CA" sz="3600" spc="-1" strike="noStrike">
                <a:solidFill>
                  <a:srgbClr val="000000"/>
                </a:solidFill>
                <a:latin typeface="Times New Roman"/>
              </a:rPr>
              <a:t>bâti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s 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fr-CA" sz="4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tiss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523880" y="1980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 regar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us (p</a:t>
            </a:r>
            <a:r>
              <a:rPr b="0" lang="fr-CA" sz="4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r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1371240"/>
            <a:ext cx="815328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us p</a:t>
            </a:r>
            <a:r>
              <a:rPr b="0" lang="fr-CA" sz="4000" spc="-1" strike="noStrike">
                <a:solidFill>
                  <a:srgbClr val="000000"/>
                </a:solidFill>
                <a:latin typeface="Times New Roman"/>
              </a:rPr>
              <a:t>âliss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he establish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le 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établ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 am play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7521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e jou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600" y="18288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e do wait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us attendon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y are studying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s 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étudien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2"/>
          <p:cNvSpPr/>
          <p:nvPr/>
        </p:nvSpPr>
        <p:spPr>
          <a:xfrm>
            <a:off x="1371600" y="190512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 (aim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e trav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us voyage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nourr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e nourrishes /is nourrishing /does nourrish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J’écou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716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listen / I am liste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 do liste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us descendez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You go down. / You do go down.  You are going down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garçon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CA" sz="4000" spc="-1" strike="noStrike">
                <a:solidFill>
                  <a:srgbClr val="000000"/>
                </a:solidFill>
                <a:latin typeface="Times New Roman"/>
              </a:rPr>
              <a:t>â</a:t>
            </a:r>
            <a:r>
              <a:rPr b="0" lang="fr-CA" sz="4400" spc="-1" strike="noStrike">
                <a:solidFill>
                  <a:srgbClr val="000000"/>
                </a:solidFill>
                <a:latin typeface="Times New Roman"/>
              </a:rPr>
              <a:t>lissen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oys go pale. / The boys are going pale. / The boys do go pale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1035"/>
          <p:cNvSpPr/>
          <p:nvPr/>
        </p:nvSpPr>
        <p:spPr>
          <a:xfrm>
            <a:off x="1371600" y="1981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’a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l gagn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wins. / He is winning.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does wi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1219320" y="1981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us (acheter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AutoShape 3076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083"/>
          <p:cNvSpPr/>
          <p:nvPr/>
        </p:nvSpPr>
        <p:spPr>
          <a:xfrm>
            <a:off x="137160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Times New Roman"/>
              </a:rPr>
              <a:t>Vous achet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143000" y="1447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(chan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3081"/>
          <p:cNvSpPr/>
          <p:nvPr/>
        </p:nvSpPr>
        <p:spPr>
          <a:xfrm>
            <a:off x="1371600" y="1981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1028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035"/>
          <p:cNvSpPr/>
          <p:nvPr/>
        </p:nvSpPr>
        <p:spPr>
          <a:xfrm>
            <a:off x="1371600" y="19810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ch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Ifer</cp:lastModifiedBy>
  <dcterms:modified xsi:type="dcterms:W3CDTF">2010-09-05T19:31:29Z</dcterms:modified>
  <cp:revision>47</cp:revision>
  <dc:subject/>
  <dc:title>No Slide Title</dc:title>
</cp:coreProperties>
</file>